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BDB-C7C4-403E-B3B3-3BBD692B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DA2-6B0F-40A8-8E3D-89FBB1B0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6B9-E345-4A4E-8E80-977C99B3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C02-B669-4A11-95E2-B52A9AEB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C1E-24CE-49D2-86A2-EA5A59FC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10E-C2B9-4517-875E-88FEC29B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944-E039-4FC8-B344-043EDE9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CAD-243D-4C38-B08F-1E23BD18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BDF-848A-4A57-8CED-E282F52A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4F3-F997-4B13-9CCE-836FA42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5F7-4A30-4D49-A359-3F8B77A7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DEE-E60E-4683-AA11-10C2ADB6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B76F-6E3F-4882-9130-1F9E4E632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4"/>
          <p:cNvSpPr/>
          <p:nvPr/>
        </p:nvSpPr>
        <p:spPr>
          <a:xfrm>
            <a:off x="4319640" y="838080"/>
            <a:ext cx="938160" cy="3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Varia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3481560" y="1409760"/>
            <a:ext cx="938160" cy="34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Numb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2703600" y="1981080"/>
            <a:ext cx="938160" cy="3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Integ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8"/>
          <p:cNvCxnSpPr>
            <a:stCxn id="42" idx="0"/>
            <a:endCxn id="41" idx="2"/>
          </p:cNvCxnSpPr>
          <p:nvPr/>
        </p:nvCxnSpPr>
        <p:spPr>
          <a:xfrm flipV="1">
            <a:off x="3950640" y="1181160"/>
            <a:ext cx="838440" cy="228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Rounded Rectangle 10"/>
          <p:cNvSpPr/>
          <p:nvPr/>
        </p:nvSpPr>
        <p:spPr>
          <a:xfrm>
            <a:off x="5614920" y="2781360"/>
            <a:ext cx="938160" cy="34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Point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11"/>
          <p:cNvSpPr/>
          <p:nvPr/>
        </p:nvSpPr>
        <p:spPr>
          <a:xfrm>
            <a:off x="6681960" y="2781360"/>
            <a:ext cx="938160" cy="34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Str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2"/>
          <p:cNvCxnSpPr>
            <a:stCxn id="45" idx="0"/>
            <a:endCxn id="41" idx="2"/>
          </p:cNvCxnSpPr>
          <p:nvPr/>
        </p:nvCxnSpPr>
        <p:spPr>
          <a:xfrm flipH="1" flipV="1">
            <a:off x="4788720" y="1181160"/>
            <a:ext cx="1295640" cy="1600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Straight Arrow Connector 15"/>
          <p:cNvCxnSpPr>
            <a:stCxn id="46" idx="0"/>
            <a:endCxn id="41" idx="2"/>
          </p:cNvCxnSpPr>
          <p:nvPr/>
        </p:nvCxnSpPr>
        <p:spPr>
          <a:xfrm flipH="1" flipV="1">
            <a:off x="4788720" y="1181160"/>
            <a:ext cx="2362680" cy="1600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Straight Arrow Connector 8"/>
          <p:cNvCxnSpPr>
            <a:stCxn id="43" idx="0"/>
            <a:endCxn id="42" idx="2"/>
          </p:cNvCxnSpPr>
          <p:nvPr/>
        </p:nvCxnSpPr>
        <p:spPr>
          <a:xfrm flipV="1">
            <a:off x="3172680" y="1752480"/>
            <a:ext cx="778320" cy="228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Rounded Rectangle 30"/>
          <p:cNvSpPr/>
          <p:nvPr/>
        </p:nvSpPr>
        <p:spPr>
          <a:xfrm>
            <a:off x="2262240" y="25909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Byte, IDL_Int, IDL_Lo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Uint, IDL_Ulo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Long64, IDL_Ulong6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Straight Arrow Connector 8"/>
          <p:cNvCxnSpPr>
            <a:stCxn id="50" idx="0"/>
            <a:endCxn id="43" idx="2"/>
          </p:cNvCxnSpPr>
          <p:nvPr/>
        </p:nvCxnSpPr>
        <p:spPr>
          <a:xfrm flipH="1" flipV="1">
            <a:off x="3172680" y="2324160"/>
            <a:ext cx="4320" cy="267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Rounded Rectangle 34"/>
          <p:cNvSpPr/>
          <p:nvPr/>
        </p:nvSpPr>
        <p:spPr>
          <a:xfrm>
            <a:off x="4243320" y="2438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Flo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Dou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Comple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DL_Dcomple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8"/>
          <p:cNvCxnSpPr>
            <a:stCxn id="52" idx="0"/>
            <a:endCxn id="42" idx="2"/>
          </p:cNvCxnSpPr>
          <p:nvPr/>
        </p:nvCxnSpPr>
        <p:spPr>
          <a:xfrm flipH="1" flipV="1">
            <a:off x="3950640" y="1752480"/>
            <a:ext cx="902520" cy="686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TextBox 62"/>
          <p:cNvSpPr/>
          <p:nvPr/>
        </p:nvSpPr>
        <p:spPr>
          <a:xfrm>
            <a:off x="1371600" y="14763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eft Brace 63"/>
          <p:cNvSpPr/>
          <p:nvPr/>
        </p:nvSpPr>
        <p:spPr>
          <a:xfrm>
            <a:off x="2286000" y="83808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eft Brace 64"/>
          <p:cNvSpPr/>
          <p:nvPr/>
        </p:nvSpPr>
        <p:spPr>
          <a:xfrm>
            <a:off x="1981080" y="251460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609480"/>
              <a:gd name="textAreaBottom" fmla="*/ 603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5400" y="10800"/>
                  <a:pt x="0" y="10800"/>
                </a:cubicBezTo>
                <a:cubicBezTo>
                  <a:pt x="54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1371600" y="25858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L Data 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6:31:00Z</dcterms:created>
  <dc:creator>chris</dc:creator>
  <dc:description/>
  <dc:language>en-US</dc:language>
  <cp:lastModifiedBy>chris</cp:lastModifiedBy>
  <dcterms:modified xsi:type="dcterms:W3CDTF">2014-07-15T17:13:20Z</dcterms:modified>
  <cp:revision>8</cp:revision>
  <dc:subject/>
  <dc:title>Slide 1</dc:title>
</cp:coreProperties>
</file>